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E0A-192C-481F-A031-AB21363A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704-0146-4718-826E-2DD29289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951-9E6C-4F33-9DD2-06132068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556-DD83-40A9-B086-0A66E1CD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82E-E87D-46EA-90FE-763D9211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0EB-785C-4730-9DA7-C4B683C4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77C-01BB-4C98-B260-E26E3F67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952-F658-4CCE-89A1-10FFD8EF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1CF-2E2F-4702-BFFB-B90514E5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4F3-374E-4809-81EB-A8A47F8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6DC-3B02-4251-A512-5A9C7D30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92B-7D89-4CF4-B596-3993256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1F1E-9D5F-47F3-B528-B67F423B0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"/>
          <p:cNvPicPr/>
          <p:nvPr/>
        </p:nvPicPr>
        <p:blipFill>
          <a:blip r:embed="rId1"/>
          <a:stretch/>
        </p:blipFill>
        <p:spPr>
          <a:xfrm>
            <a:off x="7920" y="990720"/>
            <a:ext cx="1182600" cy="220968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304920" y="2751120"/>
            <a:ext cx="839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1" descr=""/>
          <p:cNvPicPr/>
          <p:nvPr/>
        </p:nvPicPr>
        <p:blipFill>
          <a:blip r:embed="rId2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Documents and Settings\Administrator\桌面\1121315675897.gif"/>
          <p:cNvPicPr/>
          <p:nvPr/>
        </p:nvPicPr>
        <p:blipFill>
          <a:blip r:embed="rId3"/>
          <a:stretch/>
        </p:blipFill>
        <p:spPr>
          <a:xfrm flipH="1">
            <a:off x="7751880" y="4056120"/>
            <a:ext cx="1101600" cy="2658960"/>
          </a:xfrm>
          <a:prstGeom prst="rect">
            <a:avLst/>
          </a:prstGeom>
          <a:ln w="0">
            <a:noFill/>
          </a:ln>
        </p:spPr>
      </p:pic>
      <p:sp>
        <p:nvSpPr>
          <p:cNvPr id="45" name="矩形 1"/>
          <p:cNvSpPr/>
          <p:nvPr/>
        </p:nvSpPr>
        <p:spPr>
          <a:xfrm rot="20855400">
            <a:off x="8371800" y="4446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 rot="641400">
            <a:off x="8313120" y="623520"/>
            <a:ext cx="3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 rot="876600">
            <a:off x="8461800" y="10490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 rot="20769600">
            <a:off x="8375760" y="1204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990720" y="1996920"/>
            <a:ext cx="731520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随机从甲、乙两块试验田中各抽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株麦苗测量高度，计算平均数和方差的结果为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7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1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小麦长势比较整齐的试验田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427040" y="2979720"/>
            <a:ext cx="11222280" cy="525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2855880" y="2979720"/>
            <a:ext cx="1352700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矩形 3"/>
          <p:cNvSpPr/>
          <p:nvPr/>
        </p:nvSpPr>
        <p:spPr>
          <a:xfrm>
            <a:off x="1631520" y="38862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1219320" y="2170080"/>
            <a:ext cx="63244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渔场为了考察鱼池中鱼的生长情况，从中捕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进行测量，结果如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位：厘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9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9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9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我们可估计这个鱼池中鱼长的方差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4872960" y="363852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.008 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1219320" y="1828800"/>
            <a:ext cx="6705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了估计某市空气质量情况，某同学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里做了如下记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空气质量为优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空气质量为良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空气质量为轻度污染，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6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计算，请你估计该城市在一年中空气质量达到良以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天数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09680" y="4952880"/>
          <a:ext cx="4953240" cy="914400"/>
        </p:xfrm>
        <a:graphic>
          <a:graphicData uri="http://schemas.openxmlformats.org/drawingml/2006/table">
            <a:tbl>
              <a:tblPr/>
              <a:tblGrid>
                <a:gridCol w="1773360"/>
                <a:gridCol w="595440"/>
                <a:gridCol w="595080"/>
                <a:gridCol w="594000"/>
                <a:gridCol w="698400"/>
                <a:gridCol w="69696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污染指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天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矩形 4"/>
          <p:cNvSpPr/>
          <p:nvPr/>
        </p:nvSpPr>
        <p:spPr>
          <a:xfrm>
            <a:off x="2556720" y="4172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533520" y="17128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近年来，中学生的身体素质普遍下降，某校为了提高本校学生的身体素质，落实教育部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校学生每天体育锻炼时间不少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文件精神，对部分学生的每天体育锻炼时间进行了调查统计．以下是本次调查结果的统计表和统计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920" y="4038480"/>
          <a:ext cx="7101000" cy="1828800"/>
        </p:xfrm>
        <a:graphic>
          <a:graphicData uri="http://schemas.openxmlformats.org/drawingml/2006/table">
            <a:tbl>
              <a:tblPr/>
              <a:tblGrid>
                <a:gridCol w="1879560"/>
                <a:gridCol w="830160"/>
                <a:gridCol w="1430640"/>
                <a:gridCol w="1430280"/>
                <a:gridCol w="1530360"/>
              </a:tblGrid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7391520" y="4200480"/>
            <a:ext cx="136188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1143000" y="1752480"/>
            <a:ext cx="685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出本次被调查的学生数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求出统计表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各组人数的众数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调查结果，请你估计该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 4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学生中每天体育锻炼时间不少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的学生人数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1143000" y="4138560"/>
            <a:ext cx="7238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÷10%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众数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每天体育锻炼时间不少于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时的学生人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 400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               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 56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2438280" y="5172120"/>
            <a:ext cx="12160440" cy="90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304920" y="1828800"/>
            <a:ext cx="8229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经市场调查，某种优质西瓜质量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5±0.25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最为畅销．为了控制西瓜的质量，农科所采用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种种植技术进行试验．现从这两种技术种植的西瓜中各随机抽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，记录它们的质量如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位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00200" y="2819520"/>
          <a:ext cx="4343400" cy="1371600"/>
        </p:xfrm>
        <a:graphic>
          <a:graphicData uri="http://schemas.openxmlformats.org/drawingml/2006/table">
            <a:tbl>
              <a:tblPr/>
              <a:tblGrid>
                <a:gridCol w="506520"/>
                <a:gridCol w="2006640"/>
                <a:gridCol w="990360"/>
                <a:gridCol w="839880"/>
              </a:tblGrid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优等品数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.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.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0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矩形 3"/>
          <p:cNvSpPr/>
          <p:nvPr/>
        </p:nvSpPr>
        <p:spPr>
          <a:xfrm>
            <a:off x="457200" y="4427640"/>
            <a:ext cx="798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分别从优等品数量、平均数与方差三方面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种技术作出评价；从市场销售的角度看，你认为推广哪种种植技术较好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457200" y="2016000"/>
            <a:ext cx="7315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质量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5±0.25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为优等品，根据以上信息完成下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2754720" y="3332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2754720" y="379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1371600" y="2133720"/>
            <a:ext cx="777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优等品数量的角度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种植的西瓜优等品数量较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较好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平均数的角度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种植的西瓜质量的平均质量更接近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 kg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较好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方差的角度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种植的西瓜质量的方差更小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种植的西瓜质量更为稳定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市场销售角度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优等品更畅销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种植的西瓜优等品数量较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且平均质量更接近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 kg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而更适合推广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种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762120" y="16002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曲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甲、乙两名工人同时加工同一种零件，现根据两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产品中每天出现的次品数情况绘制成如下不完整的统计图和表，依据图、表信息，解答下列问题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S20"/>
          <p:cNvPicPr/>
          <p:nvPr/>
        </p:nvPicPr>
        <p:blipFill>
          <a:blip r:embed="rId1"/>
          <a:stretch/>
        </p:blipFill>
        <p:spPr>
          <a:xfrm>
            <a:off x="1081080" y="3695760"/>
            <a:ext cx="2209680" cy="1573200"/>
          </a:xfrm>
          <a:prstGeom prst="rect">
            <a:avLst/>
          </a:prstGeom>
          <a:ln w="0">
            <a:noFill/>
          </a:ln>
        </p:spPr>
      </p:pic>
      <p:sp>
        <p:nvSpPr>
          <p:cNvPr id="116" name="矩形 3"/>
          <p:cNvSpPr/>
          <p:nvPr/>
        </p:nvSpPr>
        <p:spPr>
          <a:xfrm>
            <a:off x="4303440" y="3114720"/>
            <a:ext cx="1567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关统计量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1984320" y="3668760"/>
            <a:ext cx="8454960" cy="2025720"/>
          </a:xfrm>
          <a:prstGeom prst="rect">
            <a:avLst/>
          </a:prstGeom>
          <a:ln w="0">
            <a:noFill/>
          </a:ln>
        </p:spPr>
      </p:pic>
      <p:sp>
        <p:nvSpPr>
          <p:cNvPr id="118" name="矩形 6"/>
          <p:cNvSpPr/>
          <p:nvPr/>
        </p:nvSpPr>
        <p:spPr>
          <a:xfrm>
            <a:off x="5088960" y="4281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/>
          <p:cNvSpPr/>
          <p:nvPr/>
        </p:nvSpPr>
        <p:spPr>
          <a:xfrm>
            <a:off x="5930280" y="4281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1665000" y="1752480"/>
            <a:ext cx="1765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品数量统计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19200" y="2438280"/>
          <a:ext cx="4564080" cy="1830600"/>
        </p:xfrm>
        <a:graphic>
          <a:graphicData uri="http://schemas.openxmlformats.org/drawingml/2006/table">
            <a:tbl>
              <a:tblPr/>
              <a:tblGrid>
                <a:gridCol w="1033560"/>
                <a:gridCol w="503280"/>
                <a:gridCol w="504720"/>
                <a:gridCol w="504720"/>
                <a:gridCol w="503280"/>
                <a:gridCol w="504720"/>
                <a:gridCol w="505080"/>
                <a:gridCol w="504720"/>
              </a:tblGrid>
              <a:tr h="609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量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矩形 4"/>
          <p:cNvSpPr/>
          <p:nvPr/>
        </p:nvSpPr>
        <p:spPr>
          <a:xfrm>
            <a:off x="990720" y="441972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补全图、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谁出现次品的波动小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估计乙加工该种零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出现次品多少件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5640480" y="3809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5分钟预习导航"/>
          <p:cNvPicPr/>
          <p:nvPr/>
        </p:nvPicPr>
        <p:blipFill>
          <a:blip r:embed="rId1"/>
          <a:stretch/>
        </p:blipFill>
        <p:spPr>
          <a:xfrm>
            <a:off x="2286000" y="2209680"/>
            <a:ext cx="4041720" cy="425520"/>
          </a:xfrm>
          <a:prstGeom prst="rect">
            <a:avLst/>
          </a:prstGeom>
          <a:ln w="0">
            <a:noFill/>
          </a:ln>
        </p:spPr>
      </p:pic>
      <p:sp>
        <p:nvSpPr>
          <p:cNvPr id="51" name="矩形 3"/>
          <p:cNvSpPr/>
          <p:nvPr/>
        </p:nvSpPr>
        <p:spPr>
          <a:xfrm>
            <a:off x="1295280" y="3048120"/>
            <a:ext cx="701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考察总体方差时，如果要考察的总体包含很多个体，或考察本身带有破坏性，实际中常用样本平均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方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估计总体的平均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方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1401480" y="21337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图略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371600" y="2658960"/>
            <a:ext cx="12864960" cy="957240"/>
          </a:xfrm>
          <a:prstGeom prst="rect">
            <a:avLst/>
          </a:prstGeom>
          <a:ln w="0">
            <a:noFill/>
          </a:ln>
        </p:spPr>
      </p:pic>
      <p:sp>
        <p:nvSpPr>
          <p:cNvPr id="128" name="矩形 3"/>
          <p:cNvSpPr/>
          <p:nvPr/>
        </p:nvSpPr>
        <p:spPr>
          <a:xfrm>
            <a:off x="925560" y="371628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即乙出现次品的波动小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出现次品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件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990720" y="182880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株洲市关心下一代工作委员会为了了解全市初三学生的视力状况，从全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0 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初三学生中随机抽取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进行视力测试，发现其中视力不良的学生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，则可估计全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0 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初三学生中视力不良的约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 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5 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5623560" y="3213000"/>
            <a:ext cx="365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762120" y="1600200"/>
            <a:ext cx="7696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校开展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节约每一滴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活动，为了了解开展活动一个月以来节约用水的情况，从八年级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中选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统计了各自家庭一个月节约用水的情况如下表所示：请你估计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的家庭一个月节约用水的总量大约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5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.5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6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95400" y="4495680"/>
          <a:ext cx="4353120" cy="1828800"/>
        </p:xfrm>
        <a:graphic>
          <a:graphicData uri="http://schemas.openxmlformats.org/drawingml/2006/table">
            <a:tbl>
              <a:tblPr/>
              <a:tblGrid>
                <a:gridCol w="1208160"/>
                <a:gridCol w="609480"/>
                <a:gridCol w="706680"/>
                <a:gridCol w="609480"/>
                <a:gridCol w="609480"/>
                <a:gridCol w="609840"/>
              </a:tblGrid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节水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家庭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矩形 4"/>
          <p:cNvSpPr/>
          <p:nvPr/>
        </p:nvSpPr>
        <p:spPr>
          <a:xfrm>
            <a:off x="5564880" y="310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457200" y="167652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校九年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学生参加植树活动，随机调查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学生植树的数量，并根据数据绘制了如下条形统计图，请估计该校九年级学生此次植树活动约植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棵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698920" y="3429000"/>
            <a:ext cx="2209680" cy="2004840"/>
          </a:xfrm>
          <a:prstGeom prst="rect">
            <a:avLst/>
          </a:prstGeom>
          <a:ln w="0">
            <a:noFill/>
          </a:ln>
        </p:spPr>
      </p:pic>
      <p:sp>
        <p:nvSpPr>
          <p:cNvPr id="62" name="矩形 3"/>
          <p:cNvSpPr/>
          <p:nvPr/>
        </p:nvSpPr>
        <p:spPr>
          <a:xfrm>
            <a:off x="4802760" y="2647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1600200" y="19558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新家今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份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用米量如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估计小新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份用米量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362320" y="3657600"/>
          <a:ext cx="4178160" cy="1635120"/>
        </p:xfrm>
        <a:graphic>
          <a:graphicData uri="http://schemas.openxmlformats.org/drawingml/2006/table">
            <a:tbl>
              <a:tblPr/>
              <a:tblGrid>
                <a:gridCol w="1604880"/>
                <a:gridCol w="644400"/>
                <a:gridCol w="642960"/>
                <a:gridCol w="642960"/>
                <a:gridCol w="642960"/>
              </a:tblGrid>
              <a:tr h="81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用米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k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天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矩形 4"/>
          <p:cNvSpPr/>
          <p:nvPr/>
        </p:nvSpPr>
        <p:spPr>
          <a:xfrm>
            <a:off x="5183640" y="2459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979720" y="4114800"/>
            <a:ext cx="3184560" cy="1731960"/>
          </a:xfrm>
          <a:prstGeom prst="rect">
            <a:avLst/>
          </a:prstGeom>
          <a:ln w="0">
            <a:noFill/>
          </a:ln>
        </p:spPr>
      </p:pic>
      <p:sp>
        <p:nvSpPr>
          <p:cNvPr id="69" name="矩形 2"/>
          <p:cNvSpPr/>
          <p:nvPr/>
        </p:nvSpPr>
        <p:spPr>
          <a:xfrm>
            <a:off x="1257480" y="167652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了解某新品种黄瓜的生长情况，抽查了部分黄瓜株上长出的黄瓜根数，得到如图的条形图，观察该图，可知共抽查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株黄瓜，并可估计出这个新品种黄瓜平均每株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黄瓜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3448800" y="2646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3448800" y="3184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609480" y="167652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校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爱护地球，绿化祖国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创建活动中，组织学生开展植树造林活动．为了解全校学生的植树情况，学校随机抽查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学生的植树情况，将调查数据整理如下表：则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平均每人植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棵；若该校共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学生，请根据以上调查结果估计该校学生的植树总数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棵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52480" y="4343400"/>
          <a:ext cx="4800600" cy="1371600"/>
        </p:xfrm>
        <a:graphic>
          <a:graphicData uri="http://schemas.openxmlformats.org/drawingml/2006/table">
            <a:tbl>
              <a:tblPr/>
              <a:tblGrid>
                <a:gridCol w="2532240"/>
                <a:gridCol w="566640"/>
                <a:gridCol w="568440"/>
                <a:gridCol w="566640"/>
                <a:gridCol w="566640"/>
              </a:tblGrid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植树数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位：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矩形 4"/>
          <p:cNvSpPr/>
          <p:nvPr/>
        </p:nvSpPr>
        <p:spPr>
          <a:xfrm>
            <a:off x="3902040" y="35812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 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1906920" y="3105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"/>
          <p:cNvSpPr/>
          <p:nvPr/>
        </p:nvSpPr>
        <p:spPr>
          <a:xfrm>
            <a:off x="457200" y="15238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了增强市民的环保意识，某校八年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学生在今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世界环境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一天调查了各自家庭丢弃废旧塑料袋的情况，有关数据如下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905120" y="3035160"/>
          <a:ext cx="4724280" cy="1524240"/>
        </p:xfrm>
        <a:graphic>
          <a:graphicData uri="http://schemas.openxmlformats.org/drawingml/2006/table">
            <a:tbl>
              <a:tblPr/>
              <a:tblGrid>
                <a:gridCol w="2363760"/>
                <a:gridCol w="511200"/>
                <a:gridCol w="615960"/>
                <a:gridCol w="617400"/>
                <a:gridCol w="615960"/>
              </a:tblGrid>
              <a:tr h="101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每户丢弃废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塑料袋的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户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矩形 6"/>
          <p:cNvSpPr/>
          <p:nvPr/>
        </p:nvSpPr>
        <p:spPr>
          <a:xfrm>
            <a:off x="457200" y="46483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以上信息回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户居民每天丢弃废旧塑料袋的平均数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该校所在的居民区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户，则该居民区每天丢弃的废旧塑料袋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个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6021720" y="5105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1068840" y="6019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Administrator</cp:lastModifiedBy>
  <dcterms:modified xsi:type="dcterms:W3CDTF">2015-09-10T00:50:52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